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21337588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980720" y="2296080"/>
            <a:ext cx="17361000" cy="26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980720" y="10247040"/>
            <a:ext cx="1736100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876680" y="68702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98072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876680" y="10247040"/>
            <a:ext cx="84718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85052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720680" y="68702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9807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785052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3720680" y="10247040"/>
            <a:ext cx="5590080" cy="30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82600" y="6870240"/>
            <a:ext cx="171702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082600" y="-360"/>
            <a:ext cx="171702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082600" y="325080"/>
            <a:ext cx="17170200" cy="337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2082600" y="3698640"/>
            <a:ext cx="8267400" cy="798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1020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9925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7484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680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391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391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391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82600" y="240840"/>
            <a:ext cx="17170200" cy="354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082600" y="3784320"/>
            <a:ext cx="17170200" cy="955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082600" y="325080"/>
            <a:ext cx="17170200" cy="337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750840" y="3698640"/>
            <a:ext cx="6502320" cy="798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574560" indent="-39960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934560" indent="-3999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294920" indent="-39996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654560" indent="-39960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014920" indent="-39960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014920" indent="-39960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014920" indent="-39960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082600" y="325080"/>
            <a:ext cx="17170200" cy="337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2082600" y="3698640"/>
            <a:ext cx="8267400" cy="798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1020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9925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7484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680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391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391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39120" indent="-424440">
              <a:spcBef>
                <a:spcPts val="5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2082600" y="1739520"/>
            <a:ext cx="17170200" cy="986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92640" indent="-50256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1" marL="1083960" indent="-50292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2" marL="1475280" indent="-50292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3" marL="1866240" indent="-50256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4" marL="2257200" indent="-50256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5" marL="2257200" indent="-50256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6" marL="2257200" indent="-502560">
              <a:spcBef>
                <a:spcPts val="6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82600" y="325080"/>
            <a:ext cx="17170200" cy="337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2082600" y="3698640"/>
            <a:ext cx="17170200" cy="798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2432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1" marL="113328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2" marL="154224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3" marL="195084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4" marL="235980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5" marL="235980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lvl="6" marL="2359800" indent="-52560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173610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980720" y="6870240"/>
            <a:ext cx="1736100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2600" y="4064040"/>
            <a:ext cx="1717020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2082600" y="6870240"/>
            <a:ext cx="17170200" cy="48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082600" y="-360"/>
            <a:ext cx="1717020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82600" y="10071000"/>
            <a:ext cx="171702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82600" y="10071000"/>
            <a:ext cx="171702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041480" y="6540480"/>
            <a:ext cx="9626400" cy="679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1480" y="0"/>
            <a:ext cx="9626400" cy="64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9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41480" y="6540480"/>
            <a:ext cx="9626400" cy="679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041480" y="0"/>
            <a:ext cx="9626400" cy="64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9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82600" y="343080"/>
            <a:ext cx="1717020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626760" y="152280"/>
            <a:ext cx="11455200" cy="8382240"/>
          </a:xfrm>
          <a:prstGeom prst="rect">
            <a:avLst/>
          </a:prstGeom>
          <a:solidFill>
            <a:srgbClr val="363541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16738560" y="8826480"/>
            <a:ext cx="4356000" cy="4356000"/>
          </a:xfrm>
          <a:prstGeom prst="rect">
            <a:avLst/>
          </a:prstGeom>
          <a:solidFill>
            <a:srgbClr val="9fabc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260280" y="4533840"/>
            <a:ext cx="4013280" cy="4013280"/>
          </a:xfrm>
          <a:prstGeom prst="rect">
            <a:avLst/>
          </a:prstGeom>
          <a:solidFill>
            <a:srgbClr val="9fabc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266760" y="190440"/>
            <a:ext cx="4013280" cy="4013280"/>
          </a:xfrm>
          <a:prstGeom prst="rect">
            <a:avLst/>
          </a:prstGeom>
          <a:solidFill>
            <a:srgbClr val="e1725d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4610160" y="6553080"/>
            <a:ext cx="4686120" cy="6566040"/>
          </a:xfrm>
          <a:prstGeom prst="rect">
            <a:avLst/>
          </a:prstGeom>
          <a:solidFill>
            <a:srgbClr val="68413d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9840960" y="-1727280"/>
            <a:ext cx="119887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 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Qu’entend-on par «comprendre les maths»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25280" y="8832960"/>
            <a:ext cx="4268880" cy="42037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064120" y="622440"/>
            <a:ext cx="4000680" cy="52448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9055080" y="254160"/>
            <a:ext cx="279360" cy="624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10374480" y="8758080"/>
            <a:ext cx="5271840" cy="44830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9893160" y="3473280"/>
            <a:ext cx="119890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 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Athénée Royal d’Esneux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9855360" y="5130720"/>
            <a:ext cx="1198872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 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alhan Kevi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324480" y="2044800"/>
            <a:ext cx="8915400" cy="60595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-1028880" y="2043000"/>
            <a:ext cx="8915760" cy="60595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13731840" y="2046240"/>
            <a:ext cx="8915400" cy="60580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14541480" y="10287000"/>
            <a:ext cx="139680" cy="3816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8986400" y="177840"/>
            <a:ext cx="2159280" cy="1778040"/>
          </a:xfrm>
          <a:prstGeom prst="rect">
            <a:avLst/>
          </a:prstGeom>
          <a:solidFill>
            <a:srgbClr val="a4b7d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216000" y="177840"/>
            <a:ext cx="18668880" cy="1778040"/>
          </a:xfrm>
          <a:prstGeom prst="rect">
            <a:avLst/>
          </a:prstGeom>
          <a:solidFill>
            <a:srgbClr val="d479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216000" y="2044800"/>
            <a:ext cx="20929680" cy="11125080"/>
          </a:xfrm>
          <a:prstGeom prst="rect">
            <a:avLst/>
          </a:prstGeom>
          <a:noFill/>
          <a:ln w="25560">
            <a:solidFill>
              <a:srgbClr val="312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>
            <a:off x="531720" y="546120"/>
            <a:ext cx="1764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Qu’entend-on par «comprendre les maths»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19705680" y="317520"/>
            <a:ext cx="825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>
            <a:off x="5664240" y="9753480"/>
            <a:ext cx="10020240" cy="11052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-1066680" y="1701720"/>
            <a:ext cx="1257120" cy="1159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"/>
          <p:cNvSpPr/>
          <p:nvPr/>
        </p:nvSpPr>
        <p:spPr>
          <a:xfrm>
            <a:off x="21170880" y="723960"/>
            <a:ext cx="1257480" cy="1159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16000" y="176040"/>
            <a:ext cx="19062720" cy="12993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19456560" y="177840"/>
            <a:ext cx="1714320" cy="11074320"/>
          </a:xfrm>
          <a:prstGeom prst="rect">
            <a:avLst/>
          </a:prstGeom>
          <a:solidFill>
            <a:srgbClr val="9fb1c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19459440" y="11391840"/>
            <a:ext cx="1704960" cy="1765440"/>
          </a:xfrm>
          <a:prstGeom prst="rect">
            <a:avLst/>
          </a:prstGeom>
          <a:solidFill>
            <a:srgbClr val="d9896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9372600" y="3695760"/>
            <a:ext cx="3162240" cy="10033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7112160" y="2146320"/>
            <a:ext cx="8940600" cy="927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1054080" y="558720"/>
            <a:ext cx="9067680" cy="8128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254160" y="5773680"/>
            <a:ext cx="18897480" cy="692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8986400" y="177840"/>
            <a:ext cx="2159280" cy="1778040"/>
          </a:xfrm>
          <a:prstGeom prst="rect">
            <a:avLst/>
          </a:prstGeom>
          <a:solidFill>
            <a:srgbClr val="a4b7d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216000" y="177840"/>
            <a:ext cx="18668880" cy="1778040"/>
          </a:xfrm>
          <a:prstGeom prst="rect">
            <a:avLst/>
          </a:prstGeom>
          <a:solidFill>
            <a:srgbClr val="d479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" y="2044800"/>
            <a:ext cx="20917080" cy="11125080"/>
          </a:xfrm>
          <a:prstGeom prst="rect">
            <a:avLst/>
          </a:prstGeom>
          <a:noFill/>
          <a:ln w="25560">
            <a:solidFill>
              <a:srgbClr val="312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1720" y="546120"/>
            <a:ext cx="2400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la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977760" y="2577960"/>
            <a:ext cx="18415080" cy="1054080"/>
            <a:chOff x="977760" y="2577960"/>
            <a:chExt cx="18415080" cy="1054080"/>
          </a:xfrm>
        </p:grpSpPr>
        <p:sp>
          <p:nvSpPr>
            <p:cNvPr id="618" name=""/>
            <p:cNvSpPr/>
            <p:nvPr/>
          </p:nvSpPr>
          <p:spPr>
            <a:xfrm>
              <a:off x="977760" y="2577960"/>
              <a:ext cx="184150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77760" y="2628720"/>
              <a:ext cx="184150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1. Programme de mathématiques en 5ème TQ 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977760" y="4660920"/>
            <a:ext cx="13436640" cy="1054080"/>
            <a:chOff x="977760" y="4660920"/>
            <a:chExt cx="13436640" cy="1054080"/>
          </a:xfrm>
        </p:grpSpPr>
        <p:sp>
          <p:nvSpPr>
            <p:cNvPr id="621" name=""/>
            <p:cNvSpPr/>
            <p:nvPr/>
          </p:nvSpPr>
          <p:spPr>
            <a:xfrm>
              <a:off x="977760" y="4660920"/>
              <a:ext cx="1343664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77760" y="4711680"/>
              <a:ext cx="13436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2. Une expérience personnelle...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975120" y="6121440"/>
            <a:ext cx="14541480" cy="2959200"/>
            <a:chOff x="3975120" y="6121440"/>
            <a:chExt cx="14541480" cy="2959200"/>
          </a:xfrm>
        </p:grpSpPr>
        <p:sp>
          <p:nvSpPr>
            <p:cNvPr id="624" name=""/>
            <p:cNvSpPr/>
            <p:nvPr/>
          </p:nvSpPr>
          <p:spPr>
            <a:xfrm>
              <a:off x="3975120" y="6121440"/>
              <a:ext cx="14541480" cy="29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75120" y="6172200"/>
              <a:ext cx="1454148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on ne joue pas au même jeu dans l’enseignement qualifiant que dans l’enseignement général.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977760" y="9766440"/>
            <a:ext cx="18415080" cy="2958840"/>
            <a:chOff x="977760" y="9766440"/>
            <a:chExt cx="18415080" cy="2958840"/>
          </a:xfrm>
        </p:grpSpPr>
        <p:sp>
          <p:nvSpPr>
            <p:cNvPr id="627" name=""/>
            <p:cNvSpPr/>
            <p:nvPr/>
          </p:nvSpPr>
          <p:spPr>
            <a:xfrm>
              <a:off x="977760" y="9766440"/>
              <a:ext cx="18415080" cy="29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77760" y="9816840"/>
              <a:ext cx="1841508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3. Une question à l’origine de cette atelier: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Qu’entend-on par «comprendre les mathématiques»?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8986400" y="177840"/>
            <a:ext cx="2159280" cy="1778040"/>
          </a:xfrm>
          <a:prstGeom prst="rect">
            <a:avLst/>
          </a:prstGeom>
          <a:solidFill>
            <a:srgbClr val="a4b7d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216000" y="177840"/>
            <a:ext cx="18668880" cy="1778040"/>
          </a:xfrm>
          <a:prstGeom prst="rect">
            <a:avLst/>
          </a:prstGeom>
          <a:solidFill>
            <a:srgbClr val="d479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2044800"/>
            <a:ext cx="20917080" cy="11125080"/>
          </a:xfrm>
          <a:prstGeom prst="rect">
            <a:avLst/>
          </a:prstGeom>
          <a:noFill/>
          <a:ln w="25560">
            <a:solidFill>
              <a:srgbClr val="312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531720" y="546120"/>
            <a:ext cx="1764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Au programme de 5ème TQ électroniqu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19705680" y="317520"/>
            <a:ext cx="825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711360" y="2793960"/>
            <a:ext cx="3301920" cy="8510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876240" y="11353680"/>
            <a:ext cx="7785000" cy="8128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4495680" y="2806560"/>
            <a:ext cx="9576000" cy="8254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4"/>
          <a:stretch/>
        </p:blipFill>
        <p:spPr>
          <a:xfrm>
            <a:off x="4533840" y="3835440"/>
            <a:ext cx="13843080" cy="8380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5"/>
          <a:stretch/>
        </p:blipFill>
        <p:spPr>
          <a:xfrm>
            <a:off x="4533840" y="4876920"/>
            <a:ext cx="3314880" cy="6476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6"/>
          <a:stretch/>
        </p:blipFill>
        <p:spPr>
          <a:xfrm>
            <a:off x="838080" y="6769080"/>
            <a:ext cx="9525240" cy="8254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7"/>
          <a:stretch/>
        </p:blipFill>
        <p:spPr>
          <a:xfrm>
            <a:off x="851040" y="8940960"/>
            <a:ext cx="5549760" cy="8380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8"/>
          <a:stretch/>
        </p:blipFill>
        <p:spPr>
          <a:xfrm>
            <a:off x="16979760" y="11302920"/>
            <a:ext cx="29084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8986400" y="177840"/>
            <a:ext cx="2159280" cy="1778040"/>
          </a:xfrm>
          <a:prstGeom prst="rect">
            <a:avLst/>
          </a:prstGeom>
          <a:solidFill>
            <a:srgbClr val="a4b7d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16000" y="177840"/>
            <a:ext cx="18668880" cy="1778040"/>
          </a:xfrm>
          <a:prstGeom prst="rect">
            <a:avLst/>
          </a:prstGeom>
          <a:solidFill>
            <a:srgbClr val="d479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2044800"/>
            <a:ext cx="20917080" cy="11125080"/>
          </a:xfrm>
          <a:prstGeom prst="rect">
            <a:avLst/>
          </a:prstGeom>
          <a:noFill/>
          <a:ln w="25560">
            <a:solidFill>
              <a:srgbClr val="312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31720" y="546120"/>
            <a:ext cx="1764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Au programme de 5ème TQ électroniqu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19705680" y="317520"/>
            <a:ext cx="825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33840" y="4876920"/>
            <a:ext cx="3314880" cy="64764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38080" y="6769080"/>
            <a:ext cx="9525240" cy="8254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851040" y="8940960"/>
            <a:ext cx="5549760" cy="8380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365040" y="4870440"/>
            <a:ext cx="20647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16000" y="176040"/>
            <a:ext cx="19062720" cy="12993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19456560" y="177840"/>
            <a:ext cx="1714320" cy="11074320"/>
          </a:xfrm>
          <a:prstGeom prst="rect">
            <a:avLst/>
          </a:prstGeom>
          <a:solidFill>
            <a:srgbClr val="9fb1c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19459440" y="11391840"/>
            <a:ext cx="1704960" cy="1765440"/>
          </a:xfrm>
          <a:prstGeom prst="rect">
            <a:avLst/>
          </a:prstGeom>
          <a:solidFill>
            <a:srgbClr val="d9896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54160" y="291960"/>
            <a:ext cx="13436280" cy="1054080"/>
            <a:chOff x="254160" y="291960"/>
            <a:chExt cx="13436280" cy="1054080"/>
          </a:xfrm>
        </p:grpSpPr>
        <p:sp>
          <p:nvSpPr>
            <p:cNvPr id="655" name=""/>
            <p:cNvSpPr/>
            <p:nvPr/>
          </p:nvSpPr>
          <p:spPr>
            <a:xfrm>
              <a:off x="254160" y="291960"/>
              <a:ext cx="134362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4160" y="342720"/>
              <a:ext cx="134362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Ces élèves ont vu en 4ème TQ: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765440" y="2273400"/>
            <a:ext cx="15341400" cy="1054080"/>
            <a:chOff x="1765440" y="2273400"/>
            <a:chExt cx="15341400" cy="1054080"/>
          </a:xfrm>
        </p:grpSpPr>
        <p:sp>
          <p:nvSpPr>
            <p:cNvPr id="658" name=""/>
            <p:cNvSpPr/>
            <p:nvPr/>
          </p:nvSpPr>
          <p:spPr>
            <a:xfrm>
              <a:off x="1765440" y="2273400"/>
              <a:ext cx="1534140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5440" y="2324160"/>
              <a:ext cx="153414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Modèle fonctionnel du premier degré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1765440" y="3454560"/>
            <a:ext cx="15341400" cy="1054080"/>
            <a:chOff x="1765440" y="3454560"/>
            <a:chExt cx="15341400" cy="1054080"/>
          </a:xfrm>
        </p:grpSpPr>
        <p:sp>
          <p:nvSpPr>
            <p:cNvPr id="661" name=""/>
            <p:cNvSpPr/>
            <p:nvPr/>
          </p:nvSpPr>
          <p:spPr>
            <a:xfrm>
              <a:off x="1765440" y="3454560"/>
              <a:ext cx="1534140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65440" y="3505320"/>
              <a:ext cx="153414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Modèle fonctionnel du second degré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076640" y="4635360"/>
            <a:ext cx="11341080" cy="1054080"/>
            <a:chOff x="4076640" y="4635360"/>
            <a:chExt cx="11341080" cy="1054080"/>
          </a:xfrm>
        </p:grpSpPr>
        <p:sp>
          <p:nvSpPr>
            <p:cNvPr id="664" name=""/>
            <p:cNvSpPr/>
            <p:nvPr/>
          </p:nvSpPr>
          <p:spPr>
            <a:xfrm>
              <a:off x="4076640" y="4635360"/>
              <a:ext cx="113410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76640" y="4686120"/>
              <a:ext cx="113410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Equations du second degré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828800" y="6280200"/>
            <a:ext cx="16382880" cy="2006640"/>
            <a:chOff x="1828800" y="6280200"/>
            <a:chExt cx="16382880" cy="2006640"/>
          </a:xfrm>
        </p:grpSpPr>
        <p:sp>
          <p:nvSpPr>
            <p:cNvPr id="667" name=""/>
            <p:cNvSpPr/>
            <p:nvPr/>
          </p:nvSpPr>
          <p:spPr>
            <a:xfrm>
              <a:off x="1828800" y="6280200"/>
              <a:ext cx="16382880" cy="20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28800" y="6330960"/>
              <a:ext cx="16382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Systèmes de deux équations du premier degré à deux inconues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828800" y="8763120"/>
            <a:ext cx="16382880" cy="2006640"/>
            <a:chOff x="1828800" y="8763120"/>
            <a:chExt cx="16382880" cy="2006640"/>
          </a:xfrm>
        </p:grpSpPr>
        <p:sp>
          <p:nvSpPr>
            <p:cNvPr id="670" name=""/>
            <p:cNvSpPr/>
            <p:nvPr/>
          </p:nvSpPr>
          <p:spPr>
            <a:xfrm>
              <a:off x="1828800" y="8763120"/>
              <a:ext cx="16382880" cy="20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28800" y="8813880"/>
              <a:ext cx="16382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Relations trigonométriques dans le triangle rectangle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828800" y="11372760"/>
            <a:ext cx="16382880" cy="1054080"/>
            <a:chOff x="1828800" y="11372760"/>
            <a:chExt cx="16382880" cy="1054080"/>
          </a:xfrm>
        </p:grpSpPr>
        <p:sp>
          <p:nvSpPr>
            <p:cNvPr id="673" name=""/>
            <p:cNvSpPr/>
            <p:nvPr/>
          </p:nvSpPr>
          <p:spPr>
            <a:xfrm>
              <a:off x="1828800" y="11372760"/>
              <a:ext cx="163828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28800" y="11423520"/>
              <a:ext cx="163828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Les figures semblables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8986400" y="177840"/>
            <a:ext cx="2159280" cy="1778040"/>
          </a:xfrm>
          <a:prstGeom prst="rect">
            <a:avLst/>
          </a:prstGeom>
          <a:solidFill>
            <a:srgbClr val="a4b7d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216000" y="177840"/>
            <a:ext cx="18668880" cy="1778040"/>
          </a:xfrm>
          <a:prstGeom prst="rect">
            <a:avLst/>
          </a:prstGeom>
          <a:solidFill>
            <a:srgbClr val="d479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216000" y="2044800"/>
            <a:ext cx="20929680" cy="11125080"/>
          </a:xfrm>
          <a:prstGeom prst="rect">
            <a:avLst/>
          </a:prstGeom>
          <a:noFill/>
          <a:ln w="25560">
            <a:solidFill>
              <a:srgbClr val="312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531720" y="546120"/>
            <a:ext cx="1764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ne expérience personnelle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19705680" y="317520"/>
            <a:ext cx="825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7188120" y="5029200"/>
            <a:ext cx="12128760" cy="9270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965160" y="2451240"/>
            <a:ext cx="3225960" cy="8254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5168880" y="2654280"/>
            <a:ext cx="10553760" cy="812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5194440" y="3708360"/>
            <a:ext cx="2489040" cy="6350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5"/>
          <a:stretch/>
        </p:blipFill>
        <p:spPr>
          <a:xfrm>
            <a:off x="1689120" y="6756480"/>
            <a:ext cx="6477120" cy="7365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6"/>
          <a:stretch/>
        </p:blipFill>
        <p:spPr>
          <a:xfrm>
            <a:off x="5435640" y="8292960"/>
            <a:ext cx="11214000" cy="9273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7"/>
          <a:stretch/>
        </p:blipFill>
        <p:spPr>
          <a:xfrm>
            <a:off x="2730600" y="9906120"/>
            <a:ext cx="5486400" cy="6728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1981080" y="10325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9"/>
          <a:stretch/>
        </p:blipFill>
        <p:spPr>
          <a:xfrm>
            <a:off x="5575320" y="11442600"/>
            <a:ext cx="12090240" cy="9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16000" y="176040"/>
            <a:ext cx="19062720" cy="12993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>
            <a:off x="19456560" y="177840"/>
            <a:ext cx="1714320" cy="11074320"/>
          </a:xfrm>
          <a:prstGeom prst="rect">
            <a:avLst/>
          </a:prstGeom>
          <a:solidFill>
            <a:srgbClr val="9fb1c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>
            <a:off x="19459440" y="11391840"/>
            <a:ext cx="1704960" cy="1765440"/>
          </a:xfrm>
          <a:prstGeom prst="rect">
            <a:avLst/>
          </a:prstGeom>
          <a:solidFill>
            <a:srgbClr val="d9896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66760" y="228600"/>
            <a:ext cx="18884880" cy="1054080"/>
            <a:chOff x="266760" y="228600"/>
            <a:chExt cx="18884880" cy="1054080"/>
          </a:xfrm>
        </p:grpSpPr>
        <p:sp>
          <p:nvSpPr>
            <p:cNvPr id="693" name=""/>
            <p:cNvSpPr/>
            <p:nvPr/>
          </p:nvSpPr>
          <p:spPr>
            <a:xfrm>
              <a:off x="266760" y="228600"/>
              <a:ext cx="188848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6760" y="279360"/>
              <a:ext cx="188848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Un manque d’ouvrages de référence...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0401480" y="1511280"/>
            <a:ext cx="8762760" cy="1054080"/>
            <a:chOff x="10401480" y="1511280"/>
            <a:chExt cx="8762760" cy="1054080"/>
          </a:xfrm>
        </p:grpSpPr>
        <p:sp>
          <p:nvSpPr>
            <p:cNvPr id="696" name=""/>
            <p:cNvSpPr/>
            <p:nvPr/>
          </p:nvSpPr>
          <p:spPr>
            <a:xfrm>
              <a:off x="10401480" y="1511280"/>
              <a:ext cx="876276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401480" y="1562040"/>
              <a:ext cx="876276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en connaissez-vous?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66760" y="3962520"/>
            <a:ext cx="18884880" cy="1054080"/>
            <a:chOff x="266760" y="3962520"/>
            <a:chExt cx="18884880" cy="1054080"/>
          </a:xfrm>
        </p:grpSpPr>
        <p:sp>
          <p:nvSpPr>
            <p:cNvPr id="699" name=""/>
            <p:cNvSpPr/>
            <p:nvPr/>
          </p:nvSpPr>
          <p:spPr>
            <a:xfrm>
              <a:off x="266760" y="3962520"/>
              <a:ext cx="188848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6760" y="4013280"/>
              <a:ext cx="188848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Malgré des injonctions du programme du type: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092240" y="5943600"/>
            <a:ext cx="17576640" cy="2959200"/>
            <a:chOff x="1092240" y="5943600"/>
            <a:chExt cx="17576640" cy="2959200"/>
          </a:xfrm>
        </p:grpSpPr>
        <p:sp>
          <p:nvSpPr>
            <p:cNvPr id="702" name=""/>
            <p:cNvSpPr/>
            <p:nvPr/>
          </p:nvSpPr>
          <p:spPr>
            <a:xfrm>
              <a:off x="1092240" y="5943600"/>
              <a:ext cx="17576640" cy="29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92240" y="5994360"/>
              <a:ext cx="1757664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«Dans la mesure du possible, les situations d’apprentissage seront extraites des cours techniques.»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092240" y="9575640"/>
            <a:ext cx="17576640" cy="2959200"/>
            <a:chOff x="1092240" y="9575640"/>
            <a:chExt cx="17576640" cy="2959200"/>
          </a:xfrm>
        </p:grpSpPr>
        <p:sp>
          <p:nvSpPr>
            <p:cNvPr id="705" name=""/>
            <p:cNvSpPr/>
            <p:nvPr/>
          </p:nvSpPr>
          <p:spPr>
            <a:xfrm>
              <a:off x="1092240" y="9575640"/>
              <a:ext cx="17576640" cy="29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92240" y="9626400"/>
              <a:ext cx="1757664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«Le professeur travaillera en étroite collaboration avec son collègue enseignant le cours d’électricité.»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16000" y="176040"/>
            <a:ext cx="19062720" cy="12993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19456560" y="177840"/>
            <a:ext cx="1714320" cy="11074320"/>
          </a:xfrm>
          <a:prstGeom prst="rect">
            <a:avLst/>
          </a:prstGeom>
          <a:solidFill>
            <a:srgbClr val="9fb1c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19459440" y="11391840"/>
            <a:ext cx="1704960" cy="1765440"/>
          </a:xfrm>
          <a:prstGeom prst="rect">
            <a:avLst/>
          </a:prstGeom>
          <a:solidFill>
            <a:srgbClr val="d9896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749160" y="4214880"/>
            <a:ext cx="17996040" cy="2998800"/>
          </a:xfrm>
          <a:prstGeom prst="rect">
            <a:avLst/>
          </a:prstGeom>
          <a:ln w="0">
            <a:noFill/>
          </a:ln>
        </p:spPr>
      </p:pic>
      <p:grpSp>
        <p:nvGrpSpPr>
          <p:cNvPr id="711" name=""/>
          <p:cNvGrpSpPr/>
          <p:nvPr/>
        </p:nvGrpSpPr>
        <p:grpSpPr>
          <a:xfrm>
            <a:off x="266760" y="-196920"/>
            <a:ext cx="11950560" cy="1905120"/>
            <a:chOff x="266760" y="-196920"/>
            <a:chExt cx="11950560" cy="1905120"/>
          </a:xfrm>
        </p:grpSpPr>
        <p:sp>
          <p:nvSpPr>
            <p:cNvPr id="712" name=""/>
            <p:cNvSpPr/>
            <p:nvPr/>
          </p:nvSpPr>
          <p:spPr>
            <a:xfrm>
              <a:off x="266760" y="228600"/>
              <a:ext cx="1195056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6760" y="-196920"/>
              <a:ext cx="11950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 u="sng">
                  <a:solidFill>
                    <a:srgbClr val="4d4d4d"/>
                  </a:solidFill>
                  <a:uFillTx/>
                  <a:latin typeface="Arial Rounded MT Bold"/>
                  <a:ea typeface="Arial Rounded MT Bold"/>
                </a:rPr>
                <a:t>Conseils méthodologiques</a:t>
              </a: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: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6760" y="2654280"/>
            <a:ext cx="3784680" cy="1054080"/>
            <a:chOff x="266760" y="2654280"/>
            <a:chExt cx="3784680" cy="1054080"/>
          </a:xfrm>
        </p:grpSpPr>
        <p:sp>
          <p:nvSpPr>
            <p:cNvPr id="715" name=""/>
            <p:cNvSpPr/>
            <p:nvPr/>
          </p:nvSpPr>
          <p:spPr>
            <a:xfrm>
              <a:off x="266760" y="2654280"/>
              <a:ext cx="37846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760" y="2705040"/>
              <a:ext cx="3784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En 5TQ: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66760" y="7937640"/>
            <a:ext cx="7226280" cy="1054080"/>
            <a:chOff x="266760" y="7937640"/>
            <a:chExt cx="7226280" cy="1054080"/>
          </a:xfrm>
        </p:grpSpPr>
        <p:sp>
          <p:nvSpPr>
            <p:cNvPr id="718" name=""/>
            <p:cNvSpPr/>
            <p:nvPr/>
          </p:nvSpPr>
          <p:spPr>
            <a:xfrm>
              <a:off x="266760" y="7937640"/>
              <a:ext cx="722628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6760" y="7988400"/>
              <a:ext cx="72262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4d4d4d"/>
                  </a:solidFill>
                  <a:latin typeface="Arial Rounded MT Bold"/>
                  <a:ea typeface="Arial Rounded MT Bold"/>
                </a:rPr>
                <a:t>En 6G (math 6h):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762120" y="9809280"/>
            <a:ext cx="18084600" cy="16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65160" y="2451240"/>
            <a:ext cx="3225960" cy="8254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927000" y="3809880"/>
            <a:ext cx="12090600" cy="927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18986400" y="177840"/>
            <a:ext cx="2159280" cy="1778040"/>
          </a:xfrm>
          <a:prstGeom prst="rect">
            <a:avLst/>
          </a:prstGeom>
          <a:solidFill>
            <a:srgbClr val="a4b7d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216000" y="177840"/>
            <a:ext cx="18668880" cy="1778040"/>
          </a:xfrm>
          <a:prstGeom prst="rect">
            <a:avLst/>
          </a:prstGeom>
          <a:solidFill>
            <a:srgbClr val="d479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216000" y="2044800"/>
            <a:ext cx="20929680" cy="11125080"/>
          </a:xfrm>
          <a:prstGeom prst="rect">
            <a:avLst/>
          </a:prstGeom>
          <a:noFill/>
          <a:ln w="25560">
            <a:solidFill>
              <a:srgbClr val="312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531720" y="546120"/>
            <a:ext cx="1764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Qu’entend-on par «comprendre les maths»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19705680" y="317520"/>
            <a:ext cx="825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14838480" y="2222640"/>
            <a:ext cx="6084720" cy="805176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3881240" y="3340080"/>
            <a:ext cx="1269720" cy="255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507960" y="5473800"/>
            <a:ext cx="14033520" cy="8254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5"/>
          <a:stretch/>
        </p:blipFill>
        <p:spPr>
          <a:xfrm>
            <a:off x="698400" y="6832440"/>
            <a:ext cx="7937640" cy="590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